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51830"/>
        <c:axId val="43898496"/>
      </c:barChart>
      <c:catAx>
        <c:axId val="584518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98496"/>
        <c:crosses val="autoZero"/>
        <c:auto val="1"/>
        <c:lblAlgn val="ctr"/>
        <c:lblOffset val="100"/>
        <c:noMultiLvlLbl val="0"/>
      </c:catAx>
      <c:valAx>
        <c:axId val="438984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518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50D-6FFF-48B9-AE99-0BD0A1BB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021-FC61-4C1B-ACE1-2490DDF1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01D9-79DF-49C1-8DDB-196B36BA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885-BA5F-4E9D-B258-19D05B16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23ED-1872-413B-9026-ABE9CD78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8CD9-A6EC-4F00-98BB-1E16C58D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ECFB-939D-4ACC-80D8-77E76C4B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EC11-4BBC-4BB5-9D85-02FC088B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A87-4693-4570-B265-BB2E5E16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C375-2DFD-4422-9712-5FAC6C6A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8FF-F26B-42E6-BD30-D0BA4130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17A4-C475-4779-83EF-C013D2C2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D0199-6619-4989-90E6-7120B23019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