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22456"/>
        <c:axId val="53501687"/>
      </c:barChart>
      <c:catAx>
        <c:axId val="61622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01687"/>
        <c:crosses val="autoZero"/>
        <c:auto val="1"/>
        <c:lblAlgn val="ctr"/>
        <c:lblOffset val="100"/>
        <c:noMultiLvlLbl val="0"/>
      </c:catAx>
      <c:valAx>
        <c:axId val="535016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22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FEA-DF67-4AE6-B049-D067F833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6735-FD48-4550-9D06-4EB47976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EBD-4032-4710-94B5-8BC83581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633-C093-4AB5-A3B9-6C68A79B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D43-C926-4F75-8884-81ADABEF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028-575A-4506-817F-5BC53F28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058-150B-42DF-8E8D-6DED1D5A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F5B-D9F5-4025-91C3-0F9B0DB8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4E2-EB6C-4A89-B480-34E74E9F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2163-53EB-4869-9416-772D5700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A396-FCB7-464F-9C45-BCB693B1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83E-99D1-47EE-96CC-86746810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D4D47-5E8E-41AB-A68A-2D15952168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